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F0F4A-052B-4875-8A8A-B3E4B9D63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1C4F2-19F5-4B9E-BFC7-FF9E2C460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972B9-0A9D-4138-9413-2B0C23C94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72AE2-0608-499E-ABFD-1988EB126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E5E8A-CEB3-44B2-BEFE-2DC6F5995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15DB9-3EC9-4F8B-9B56-1E19242BC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B6B6E-BD4C-4B8D-852A-DF1819D5D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8A3F4-D566-476E-98E7-6F4965C68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29580-255E-4D5B-927C-559CD2E09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AB905-A92D-43F7-8DCB-5F719402D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44DC8-C9FC-481C-B587-513D10296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A9138-7008-4DEB-BC5C-F23D077A9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763EC-6BAB-41D1-B0D5-BE7DA7692B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2" name="Title 3" descr=""/>
          <p:cNvPicPr/>
          <p:nvPr/>
        </p:nvPicPr>
        <p:blipFill>
          <a:blip r:embed="rId1"/>
          <a:stretch/>
        </p:blipFill>
        <p:spPr>
          <a:xfrm>
            <a:off x="-219240" y="414360"/>
            <a:ext cx="9423720" cy="232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scan001 - Copy.jpg"/>
          <p:cNvPicPr/>
          <p:nvPr/>
        </p:nvPicPr>
        <p:blipFill>
          <a:blip r:embed="rId1"/>
          <a:stretch/>
        </p:blipFill>
        <p:spPr>
          <a:xfrm>
            <a:off x="5257800" y="1676520"/>
            <a:ext cx="3446640" cy="33001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Kea010806_004[1].jpg"/>
          <p:cNvPicPr/>
          <p:nvPr/>
        </p:nvPicPr>
        <p:blipFill>
          <a:blip r:embed="rId2"/>
          <a:stretch/>
        </p:blipFill>
        <p:spPr>
          <a:xfrm>
            <a:off x="609480" y="1447920"/>
            <a:ext cx="4267440" cy="3200400"/>
          </a:xfrm>
          <a:prstGeom prst="rect">
            <a:avLst/>
          </a:prstGeom>
          <a:ln w="0">
            <a:noFill/>
          </a:ln>
        </p:spPr>
      </p:pic>
      <p:sp>
        <p:nvSpPr>
          <p:cNvPr id="45" name="TextBox 3"/>
          <p:cNvSpPr/>
          <p:nvPr/>
        </p:nvSpPr>
        <p:spPr>
          <a:xfrm>
            <a:off x="3429000" y="541008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文鼎楷體外字M"/>
                <a:ea typeface="文鼎楷體外字M"/>
              </a:rPr>
              <a:t>睡  覺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Box 4"/>
          <p:cNvSpPr/>
          <p:nvPr/>
        </p:nvSpPr>
        <p:spPr>
          <a:xfrm>
            <a:off x="1600200" y="0"/>
            <a:ext cx="5410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00"/>
                </a:solidFill>
                <a:latin typeface="文鼎漢語寬拼音C1"/>
                <a:ea typeface="文鼎漢語寬拼音C1"/>
              </a:rPr>
              <a:t>睡   叫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2T06:59:58Z</dcterms:created>
  <dc:creator>Monica</dc:creator>
  <dc:description/>
  <dc:language>en-US</dc:language>
  <cp:lastModifiedBy>Monica</cp:lastModifiedBy>
  <dcterms:modified xsi:type="dcterms:W3CDTF">2009-10-02T07:03:56Z</dcterms:modified>
  <cp:revision>1</cp:revision>
  <dc:subject/>
  <dc:title>二零零九年十月十二日 星期一</dc:title>
</cp:coreProperties>
</file>